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B8F9-540D-4126-9D71-28DF261F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ADE1-E14E-43C2-A264-224F12CB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77B-5C27-4D3C-9ADB-7FDD0210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A22B-9D30-4507-B7E2-EABD1321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86CC-539E-44E5-BE61-DCC380C6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7A73-4AC5-412D-A8D2-BA4648FA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9453-5CBB-4443-9361-5B03F06F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3777-FB5E-477A-B69C-93EC94D4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4DC0-C66F-4C46-B3DF-5F7F627E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2800-7451-498D-AC1C-5A7AD3F3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0295-4FB6-4515-B244-BC8A3739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6E66-6E05-4A0D-B244-53C9BE37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2D57-0B8C-4189-917D-22296575CB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j.5ykj.com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997788.com/pr/detail_auction_102_398716.html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997788.com/pr/detail_102_1475803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2556000" y="11556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ingLiU-ExtB"/>
                <a:ea typeface="MingLiU-ExtB"/>
              </a:rPr>
              <a:t>29 </a:t>
            </a:r>
            <a:r>
              <a:rPr b="1" lang="zh-CN" sz="5400" spc="-1" strike="noStrike">
                <a:solidFill>
                  <a:srgbClr val="000000"/>
                </a:solidFill>
                <a:latin typeface="MingLiU-ExtB"/>
                <a:ea typeface="MingLiU-ExtB"/>
              </a:rPr>
              <a:t>木兰从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线连接符 21"/>
          <p:cNvSpPr/>
          <p:nvPr/>
        </p:nvSpPr>
        <p:spPr>
          <a:xfrm>
            <a:off x="2700360" y="1989000"/>
            <a:ext cx="381636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Users\duyanlin\Desktop\二年级上学路上.png"/>
          <p:cNvPicPr/>
          <p:nvPr/>
        </p:nvPicPr>
        <p:blipFill>
          <a:blip r:embed="rId2"/>
          <a:stretch/>
        </p:blipFill>
        <p:spPr>
          <a:xfrm>
            <a:off x="900000" y="2421000"/>
            <a:ext cx="516744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20061206173416368"/>
          <p:cNvPicPr/>
          <p:nvPr/>
        </p:nvPicPr>
        <p:blipFill>
          <a:blip r:embed="rId2"/>
          <a:stretch/>
        </p:blipFill>
        <p:spPr>
          <a:xfrm>
            <a:off x="2771640" y="907920"/>
            <a:ext cx="5185080" cy="28879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0" y="3500280"/>
            <a:ext cx="7162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d93"/>
                </a:solidFill>
                <a:latin typeface="Calibri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华文新魏"/>
              </a:rPr>
              <a:t>　父亲年老多病，难以出征；弟弟又小，还不够当兵的年龄。自己理应为国为家分忧</a:t>
            </a:r>
            <a:r>
              <a:rPr b="1" lang="zh-CN" sz="3600" spc="-1" strike="noStrike">
                <a:solidFill>
                  <a:srgbClr val="111d93"/>
                </a:solidFill>
                <a:latin typeface="Calibri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111d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2"/>
          <p:cNvSpPr/>
          <p:nvPr/>
        </p:nvSpPr>
        <p:spPr>
          <a:xfrm>
            <a:off x="5257800" y="365760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"/>
          <p:cNvSpPr/>
          <p:nvPr/>
        </p:nvSpPr>
        <p:spPr>
          <a:xfrm>
            <a:off x="1219320" y="4495680"/>
            <a:ext cx="7596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4495680" y="457200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0610620391016736"/>
          <p:cNvPicPr/>
          <p:nvPr/>
        </p:nvPicPr>
        <p:blipFill>
          <a:blip r:embed="rId2"/>
          <a:stretch/>
        </p:blipFill>
        <p:spPr>
          <a:xfrm>
            <a:off x="324000" y="836640"/>
            <a:ext cx="8280360" cy="5400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042920" y="3429000"/>
            <a:ext cx="711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木兰告别了亲人，披战袍，跨骏马，渡黄河，过燕山，来到了前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7"/>
          <p:cNvSpPr/>
          <p:nvPr/>
        </p:nvSpPr>
        <p:spPr>
          <a:xfrm>
            <a:off x="6248520" y="4419720"/>
            <a:ext cx="75960" cy="75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8"/>
          <p:cNvSpPr/>
          <p:nvPr/>
        </p:nvSpPr>
        <p:spPr>
          <a:xfrm>
            <a:off x="1066680" y="5334120"/>
            <a:ext cx="76320" cy="75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9"/>
          <p:cNvSpPr/>
          <p:nvPr/>
        </p:nvSpPr>
        <p:spPr>
          <a:xfrm>
            <a:off x="3124080" y="525780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0"/>
          <p:cNvSpPr/>
          <p:nvPr/>
        </p:nvSpPr>
        <p:spPr>
          <a:xfrm>
            <a:off x="5181480" y="5334120"/>
            <a:ext cx="76320" cy="75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同侧圆角矩形 4"/>
          <p:cNvSpPr/>
          <p:nvPr/>
        </p:nvSpPr>
        <p:spPr>
          <a:xfrm>
            <a:off x="468360" y="981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067_JPG"/>
          <p:cNvPicPr/>
          <p:nvPr/>
        </p:nvPicPr>
        <p:blipFill>
          <a:blip r:embed="rId2"/>
          <a:stretch/>
        </p:blipFill>
        <p:spPr>
          <a:xfrm>
            <a:off x="324000" y="907920"/>
            <a:ext cx="8280360" cy="5185080"/>
          </a:xfrm>
          <a:prstGeom prst="rect">
            <a:avLst/>
          </a:prstGeom>
          <a:ln w="0">
            <a:noFill/>
          </a:ln>
        </p:spPr>
      </p:pic>
      <p:sp>
        <p:nvSpPr>
          <p:cNvPr id="128" name="同侧圆角矩形 4"/>
          <p:cNvSpPr/>
          <p:nvPr/>
        </p:nvSpPr>
        <p:spPr>
          <a:xfrm>
            <a:off x="61128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971640" y="2060640"/>
            <a:ext cx="7086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新宋体"/>
              </a:rPr>
              <a:t>花木兰，武艺精，替父从军去出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换下女装穿战袍，英勇善战立大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新宋体"/>
              </a:rPr>
              <a:t>战争持续十二年，为家为国一份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待到战争结束时，探望将士都吃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新宋体"/>
              </a:rPr>
              <a:t>赫赫战功木兰立，女扮男装传美名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同侧圆角矩形 4"/>
          <p:cNvSpPr/>
          <p:nvPr/>
        </p:nvSpPr>
        <p:spPr>
          <a:xfrm>
            <a:off x="539640" y="1052640"/>
            <a:ext cx="200052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diamond.gif (4987 字节)"/>
          <p:cNvPicPr/>
          <p:nvPr/>
        </p:nvPicPr>
        <p:blipFill>
          <a:blip r:embed="rId2"/>
          <a:stretch/>
        </p:blipFill>
        <p:spPr>
          <a:xfrm>
            <a:off x="7885080" y="1268280"/>
            <a:ext cx="685800" cy="609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diamond.gif (4987 字节)"/>
          <p:cNvPicPr/>
          <p:nvPr/>
        </p:nvPicPr>
        <p:blipFill>
          <a:blip r:embed="rId3"/>
          <a:stretch/>
        </p:blipFill>
        <p:spPr>
          <a:xfrm>
            <a:off x="7885080" y="2492280"/>
            <a:ext cx="685800" cy="609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diamond.gif (4987 字节)"/>
          <p:cNvPicPr/>
          <p:nvPr/>
        </p:nvPicPr>
        <p:blipFill>
          <a:blip r:embed="rId4"/>
          <a:stretch/>
        </p:blipFill>
        <p:spPr>
          <a:xfrm>
            <a:off x="7885080" y="3789360"/>
            <a:ext cx="685800" cy="609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diamond.gif (4987 字节)"/>
          <p:cNvPicPr/>
          <p:nvPr/>
        </p:nvPicPr>
        <p:blipFill>
          <a:blip r:embed="rId5"/>
          <a:stretch/>
        </p:blipFill>
        <p:spPr>
          <a:xfrm>
            <a:off x="7812000" y="4941720"/>
            <a:ext cx="685800" cy="609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diamond.gif (4987 字节)"/>
          <p:cNvPicPr/>
          <p:nvPr/>
        </p:nvPicPr>
        <p:blipFill>
          <a:blip r:embed="rId6"/>
          <a:stretch/>
        </p:blipFill>
        <p:spPr>
          <a:xfrm>
            <a:off x="7812000" y="1125360"/>
            <a:ext cx="685800" cy="609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diamond.gif (4987 字节)"/>
          <p:cNvPicPr/>
          <p:nvPr/>
        </p:nvPicPr>
        <p:blipFill>
          <a:blip r:embed="rId7"/>
          <a:stretch/>
        </p:blipFill>
        <p:spPr>
          <a:xfrm>
            <a:off x="5219640" y="1052640"/>
            <a:ext cx="685800" cy="609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diamond.gif (4987 字节)"/>
          <p:cNvPicPr/>
          <p:nvPr/>
        </p:nvPicPr>
        <p:blipFill>
          <a:blip r:embed="rId8"/>
          <a:stretch/>
        </p:blipFill>
        <p:spPr>
          <a:xfrm>
            <a:off x="6516720" y="1052640"/>
            <a:ext cx="685800" cy="609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diamond.gif (4987 字节)"/>
          <p:cNvPicPr/>
          <p:nvPr/>
        </p:nvPicPr>
        <p:blipFill>
          <a:blip r:embed="rId9"/>
          <a:stretch/>
        </p:blipFill>
        <p:spPr>
          <a:xfrm>
            <a:off x="3492360" y="1052640"/>
            <a:ext cx="68580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267"/>
          <p:cNvPicPr/>
          <p:nvPr/>
        </p:nvPicPr>
        <p:blipFill>
          <a:blip r:embed="rId2"/>
          <a:stretch/>
        </p:blipFill>
        <p:spPr>
          <a:xfrm>
            <a:off x="324000" y="836640"/>
            <a:ext cx="8496000" cy="5329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1116000" y="2060640"/>
            <a:ext cx="7238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花木兰，武艺精，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新宋体"/>
              </a:rPr>
              <a:t>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从军去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新宋体"/>
              </a:rPr>
              <a:t>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换下女装穿战袍，英勇善战立大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战争持续十二年，为家为国一份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待到战争结束时，探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新宋体"/>
              </a:rPr>
              <a:t>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士都吃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赫赫战功木兰立，女扮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新宋体"/>
              </a:rPr>
              <a:t>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装传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新宋体"/>
              </a:rPr>
              <a:t>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同侧圆角矩形 4"/>
          <p:cNvSpPr/>
          <p:nvPr/>
        </p:nvSpPr>
        <p:spPr>
          <a:xfrm>
            <a:off x="61128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解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835280" y="1838520"/>
            <a:ext cx="5257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木兰从军</a:t>
            </a:r>
            <a:br>
              <a:rPr sz="3600"/>
            </a:br>
            <a:br>
              <a:rPr sz="36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热爱国家   尊老爱幼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                                         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代女英雄 英勇善战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                                                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文静俊美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同侧圆角矩形 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括主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611280" y="3311280"/>
            <a:ext cx="806436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木兰从军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是一篇历史传说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故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根据北朝民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木兰诗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改写而成。作者以饱含深情的笔触塑造了一个替父从军、爱家爱国的英雄形象。本文情节生动、形象鲜明，是一篇培养学生阅读、思考及想象能力和进行思想品德教育的好教材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法点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11280" y="19890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作者以饱含感情的笔触，描写了古代花木兰女扮男装，替父从军的事，塑造了一个光彩照人的英雄形象，赞扬了花木兰尊老爱幼、热爱祖国的优秀品质。使读者受到强烈感染，钦佩之情油然而生，禁不住心驰神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2484360" y="1268280"/>
            <a:ext cx="5065920" cy="10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寻找当代木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00000" y="2421000"/>
            <a:ext cx="75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古代木兰代父从征成为千古传诵的英雄故事，如今，尽管身处和平时代，但是，在一些特殊的战争中，依然涌现出了许许多多当代木兰，你能说出一两个并简单介绍一下她们的英雄故事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灵感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600200" y="2081160"/>
            <a:ext cx="67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作者以饱含感情的笔触，描写了古代花木兰女扮男装，替父从军的事，塑造了一个光彩照人的英雄形象，赞扬了花木兰尊老爱幼、热爱祖国的优秀品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m0623"/>
          <p:cNvPicPr/>
          <p:nvPr/>
        </p:nvPicPr>
        <p:blipFill>
          <a:blip r:embed="rId2"/>
          <a:stretch/>
        </p:blipFill>
        <p:spPr>
          <a:xfrm>
            <a:off x="4643280" y="907920"/>
            <a:ext cx="2953080" cy="3961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1042920" y="191628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国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代有一位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英雄，名叫花木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31200" y="4941720"/>
            <a:ext cx="779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花木兰是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______________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 flipH="1">
            <a:off x="2286000" y="6858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5427720" y="5013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我国古代的一位女英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sp>
          <p:nvSpPr>
            <p:cNvPr id="53" name="直线连接符 21"/>
            <p:cNvSpPr/>
            <p:nvPr/>
          </p:nvSpPr>
          <p:spPr>
            <a:xfrm flipV="1">
              <a:off x="268200" y="1689120"/>
              <a:ext cx="225576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同侧圆角矩形 23"/>
            <p:cNvSpPr/>
            <p:nvPr/>
          </p:nvSpPr>
          <p:spPr>
            <a:xfrm>
              <a:off x="452160" y="1125360"/>
              <a:ext cx="2000160" cy="51624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资料宝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同侧圆角矩形 2"/>
          <p:cNvSpPr/>
          <p:nvPr/>
        </p:nvSpPr>
        <p:spPr>
          <a:xfrm>
            <a:off x="539640" y="981000"/>
            <a:ext cx="200052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042920" y="1484280"/>
            <a:ext cx="7489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、看拼音，写词语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hēnɡ bīnɡ       jiànɡ shì     wén shū     cónɡ jū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          )      (            )    (               )  (              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、多音字组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燕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ān (        )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iānɡ (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àn (        )                 jiànɡ (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、补充词语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焦急（    ）（    ）   再（    ）追（    ）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文（    ）俊（    ）  （   ）通（    ）大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赫赫（   ）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866960" y="2205000"/>
            <a:ext cx="52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征      兵            将    士       文     书        从    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393640" y="292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燕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燕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5344920" y="292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将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将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2629080" y="474336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战        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2818440" y="402444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万         分              度            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2574720" y="438300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笔            美        神            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1332000" y="119700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谢谢同学们的精彩表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059280" y="2708280"/>
            <a:ext cx="3240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再   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PA0039871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765000"/>
            <a:ext cx="8280360" cy="5328000"/>
          </a:xfrm>
          <a:prstGeom prst="rect">
            <a:avLst/>
          </a:prstGeom>
          <a:ln w="0">
            <a:noFill/>
          </a:ln>
        </p:spPr>
      </p:pic>
      <p:grpSp>
        <p:nvGrpSpPr>
          <p:cNvPr id="57" name="组合 10"/>
          <p:cNvGrpSpPr/>
          <p:nvPr/>
        </p:nvGrpSpPr>
        <p:grpSpPr>
          <a:xfrm>
            <a:off x="250920" y="907920"/>
            <a:ext cx="2255760" cy="569520"/>
            <a:chOff x="250920" y="907920"/>
            <a:chExt cx="2255760" cy="569520"/>
          </a:xfrm>
        </p:grpSpPr>
        <p:sp>
          <p:nvSpPr>
            <p:cNvPr id="58" name="直线连接符 21"/>
            <p:cNvSpPr/>
            <p:nvPr/>
          </p:nvSpPr>
          <p:spPr>
            <a:xfrm flipV="1">
              <a:off x="250920" y="1471320"/>
              <a:ext cx="225576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同侧圆角矩形 23"/>
            <p:cNvSpPr/>
            <p:nvPr/>
          </p:nvSpPr>
          <p:spPr>
            <a:xfrm>
              <a:off x="434880" y="907920"/>
              <a:ext cx="2000160" cy="5158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资料宝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AA0147580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836640"/>
            <a:ext cx="8280360" cy="540072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sp>
          <p:nvSpPr>
            <p:cNvPr id="62" name="直线连接符 21"/>
            <p:cNvSpPr/>
            <p:nvPr/>
          </p:nvSpPr>
          <p:spPr>
            <a:xfrm flipV="1">
              <a:off x="268200" y="1689120"/>
              <a:ext cx="225576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同侧圆角矩形 23"/>
            <p:cNvSpPr/>
            <p:nvPr/>
          </p:nvSpPr>
          <p:spPr>
            <a:xfrm>
              <a:off x="452160" y="1125360"/>
              <a:ext cx="2000160" cy="51624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资料宝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习检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F:\七彩课堂插图板式封面\排版用图标、页眉页脚\标题图（终-排版用）共29个\预习指导.jpg"/>
          <p:cNvPicPr/>
          <p:nvPr/>
        </p:nvPicPr>
        <p:blipFill>
          <a:blip r:embed="rId2"/>
          <a:stretch/>
        </p:blipFill>
        <p:spPr>
          <a:xfrm>
            <a:off x="3059280" y="825480"/>
            <a:ext cx="2008080" cy="14032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0" y="234936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花木兰为什么要去从军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2539800" y="332568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花木兰是怎样说服家人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219320" y="1905120"/>
            <a:ext cx="71625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征兵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年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士   战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袍   燕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胜利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万分       年老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病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扮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装  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赫赫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战功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勇善战       文静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144440" y="15238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3a5"/>
                </a:solidFill>
                <a:latin typeface="Arial"/>
              </a:rPr>
              <a:t>mí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590920" y="1523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3a5"/>
                </a:solidFill>
                <a:latin typeface="Arial"/>
              </a:rPr>
              <a:t>zhēng bī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4878000" y="14479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3a5"/>
                </a:solidFill>
                <a:latin typeface="Arial"/>
              </a:rPr>
              <a:t>tí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479280" y="15238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3a5"/>
                </a:solidFill>
                <a:latin typeface="Arial"/>
              </a:rPr>
              <a:t>lí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235680" y="23432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3a5"/>
                </a:solidFill>
                <a:latin typeface="宋体"/>
              </a:rPr>
              <a:t>pá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946680" y="116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5946120" y="2438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3a5"/>
                </a:solidFill>
                <a:latin typeface="Arial"/>
              </a:rPr>
              <a:t>shèng l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6098040" y="3276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3a5"/>
                </a:solidFill>
                <a:latin typeface="Arial"/>
              </a:rPr>
              <a:t>bì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1548000" y="401940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3a5"/>
                </a:solidFill>
                <a:latin typeface="宋体"/>
              </a:rPr>
              <a:t>bàn n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4726800" y="40384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3a5"/>
                </a:solidFill>
                <a:latin typeface="Arial"/>
              </a:rPr>
              <a:t>hè h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4175280" y="8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5641560" y="48769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3a5"/>
                </a:solidFill>
                <a:latin typeface="Arial"/>
              </a:rPr>
              <a:t>jù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5" descr="diamond.gif (4987 字节)"/>
          <p:cNvPicPr/>
          <p:nvPr/>
        </p:nvPicPr>
        <p:blipFill>
          <a:blip r:embed="rId2"/>
          <a:stretch/>
        </p:blipFill>
        <p:spPr>
          <a:xfrm>
            <a:off x="2133720" y="0"/>
            <a:ext cx="685800" cy="838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6"/>
          <p:cNvSpPr/>
          <p:nvPr/>
        </p:nvSpPr>
        <p:spPr>
          <a:xfrm>
            <a:off x="3059280" y="90792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你能读好它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7">
            <a:hlinkClick r:id="" action="ppaction://hlinkshowjump?jump=previousslide"/>
          </p:cNvPr>
          <p:cNvSpPr/>
          <p:nvPr/>
        </p:nvSpPr>
        <p:spPr>
          <a:xfrm>
            <a:off x="1371600" y="25909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1290240" y="320040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3a5"/>
                </a:solidFill>
                <a:latin typeface="Arial"/>
              </a:rPr>
              <a:t>jiā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1061280" y="2438280"/>
            <a:ext cx="8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3a5"/>
                </a:solidFill>
                <a:latin typeface="Arial"/>
              </a:rPr>
              <a:t>ji</a:t>
            </a:r>
            <a:r>
              <a:rPr b="0" lang="en-US" sz="2400" spc="-1" strike="noStrike">
                <a:solidFill>
                  <a:srgbClr val="0b03a5"/>
                </a:solidFill>
                <a:latin typeface="宋体"/>
              </a:rPr>
              <a:t>à</a:t>
            </a:r>
            <a:r>
              <a:rPr b="0" lang="en-US" sz="2400" spc="-1" strike="noStrike">
                <a:solidFill>
                  <a:srgbClr val="0b03a5"/>
                </a:solidFill>
                <a:latin typeface="Arial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4489560" y="23623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3a5"/>
                </a:solidFill>
                <a:latin typeface="Arial"/>
              </a:rPr>
              <a:t>y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同侧圆角矩形 9"/>
          <p:cNvSpPr/>
          <p:nvPr/>
        </p:nvSpPr>
        <p:spPr>
          <a:xfrm>
            <a:off x="468360" y="981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990720" y="1905120"/>
            <a:ext cx="71625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征兵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年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士   战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袍   燕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胜利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万分       年老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病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扮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装  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赫赫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战功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勇善战       文静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946680" y="116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175280" y="8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diamond.gif (4987 字节)"/>
          <p:cNvPicPr/>
          <p:nvPr/>
        </p:nvPicPr>
        <p:blipFill>
          <a:blip r:embed="rId2"/>
          <a:stretch/>
        </p:blipFill>
        <p:spPr>
          <a:xfrm>
            <a:off x="250920" y="5229360"/>
            <a:ext cx="685800" cy="609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3708360" y="126828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  <a:ea typeface="新宋体"/>
              </a:rPr>
              <a:t>你能读好它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>
            <a:hlinkClick r:id="" action="ppaction://hlinkshowjump?jump=previousslide"/>
          </p:cNvPr>
          <p:cNvSpPr/>
          <p:nvPr/>
        </p:nvSpPr>
        <p:spPr>
          <a:xfrm>
            <a:off x="1371600" y="25909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066680" y="21337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1620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2413" h="21600">
                <a:moveTo>
                  <a:pt x="1620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2413" h="21600">
                <a:moveTo>
                  <a:pt x="13630" y="8224"/>
                </a:moveTo>
                <a:lnTo>
                  <a:pt x="17495" y="8224"/>
                </a:lnTo>
                <a:lnTo>
                  <a:pt x="17495" y="15221"/>
                </a:lnTo>
                <a:lnTo>
                  <a:pt x="18783" y="15221"/>
                </a:lnTo>
                <a:lnTo>
                  <a:pt x="18783" y="16144"/>
                </a:lnTo>
                <a:lnTo>
                  <a:pt x="13630" y="16144"/>
                </a:lnTo>
                <a:lnTo>
                  <a:pt x="13630" y="15221"/>
                </a:lnTo>
                <a:lnTo>
                  <a:pt x="14918" y="15221"/>
                </a:lnTo>
                <a:lnTo>
                  <a:pt x="14918" y="9129"/>
                </a:lnTo>
                <a:lnTo>
                  <a:pt x="13630" y="912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diamond.gif (4987 字节)"/>
          <p:cNvPicPr/>
          <p:nvPr/>
        </p:nvPicPr>
        <p:blipFill>
          <a:blip r:embed="rId3"/>
          <a:stretch/>
        </p:blipFill>
        <p:spPr>
          <a:xfrm>
            <a:off x="250920" y="3933720"/>
            <a:ext cx="685800" cy="60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diamond.gif (4987 字节)"/>
          <p:cNvPicPr/>
          <p:nvPr/>
        </p:nvPicPr>
        <p:blipFill>
          <a:blip r:embed="rId4"/>
          <a:stretch/>
        </p:blipFill>
        <p:spPr>
          <a:xfrm>
            <a:off x="250920" y="2492280"/>
            <a:ext cx="685800" cy="609840"/>
          </a:xfrm>
          <a:prstGeom prst="rect">
            <a:avLst/>
          </a:prstGeom>
          <a:ln w="0">
            <a:noFill/>
          </a:ln>
        </p:spPr>
      </p:pic>
      <p:sp>
        <p:nvSpPr>
          <p:cNvPr id="98" name="同侧圆角矩形 9"/>
          <p:cNvSpPr/>
          <p:nvPr/>
        </p:nvSpPr>
        <p:spPr>
          <a:xfrm>
            <a:off x="684360" y="112536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600200" y="1371600"/>
            <a:ext cx="5791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新宋体"/>
              </a:rPr>
              <a:t>　  </a:t>
            </a: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jià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ɡ</a:t>
            </a: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 ( </a:t>
            </a: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将士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　　　</a:t>
            </a: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ji</a:t>
            </a:r>
            <a:r>
              <a:rPr b="1" lang="en-US" sz="4000" spc="-1" strike="noStrike">
                <a:solidFill>
                  <a:srgbClr val="000000"/>
                </a:solidFill>
                <a:latin typeface="Lucida Sans"/>
                <a:ea typeface="黑体"/>
              </a:rPr>
              <a:t>ā</a:t>
            </a: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新宋体"/>
              </a:rPr>
              <a:t>ɡ</a:t>
            </a: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 ( </a:t>
            </a: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将军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828800" y="13716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新宋体"/>
                <a:ea typeface="仿宋_GB2312"/>
              </a:rPr>
              <a:t>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905120" y="3962520"/>
            <a:ext cx="23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新宋体"/>
                <a:ea typeface="仿宋_GB2312"/>
              </a:rPr>
              <a:t>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905120" y="3962520"/>
            <a:ext cx="5867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新宋体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黑体"/>
              </a:rPr>
              <a:t>ā</a:t>
            </a: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n ( </a:t>
            </a: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燕山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　　　</a:t>
            </a: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yàn ( </a:t>
            </a: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仿宋_GB2312"/>
              </a:rPr>
              <a:t>燕子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856520" y="20574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1856520" y="4419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同侧圆角矩形 9"/>
          <p:cNvSpPr/>
          <p:nvPr/>
        </p:nvSpPr>
        <p:spPr>
          <a:xfrm>
            <a:off x="468360" y="1052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63640" y="1916280"/>
            <a:ext cx="71629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征兵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年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士   战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袍   燕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胜利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万分       年老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病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扮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装  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赫赫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战功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勇善战       文静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946680" y="116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175280" y="8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diamond.gif (4987 字节)"/>
          <p:cNvPicPr/>
          <p:nvPr/>
        </p:nvPicPr>
        <p:blipFill>
          <a:blip r:embed="rId2"/>
          <a:stretch/>
        </p:blipFill>
        <p:spPr>
          <a:xfrm>
            <a:off x="7812000" y="1125360"/>
            <a:ext cx="685800" cy="6098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7">
            <a:hlinkClick r:id="" action="ppaction://hlinkshowjump?jump=previousslide"/>
          </p:cNvPr>
          <p:cNvSpPr/>
          <p:nvPr/>
        </p:nvSpPr>
        <p:spPr>
          <a:xfrm>
            <a:off x="1371600" y="25909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1066680" y="21337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1620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2413" h="21600">
                <a:moveTo>
                  <a:pt x="1620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2413" h="21600">
                <a:moveTo>
                  <a:pt x="13630" y="8224"/>
                </a:moveTo>
                <a:lnTo>
                  <a:pt x="17495" y="8224"/>
                </a:lnTo>
                <a:lnTo>
                  <a:pt x="17495" y="15221"/>
                </a:lnTo>
                <a:lnTo>
                  <a:pt x="18783" y="15221"/>
                </a:lnTo>
                <a:lnTo>
                  <a:pt x="18783" y="16144"/>
                </a:lnTo>
                <a:lnTo>
                  <a:pt x="13630" y="16144"/>
                </a:lnTo>
                <a:lnTo>
                  <a:pt x="13630" y="15221"/>
                </a:lnTo>
                <a:lnTo>
                  <a:pt x="14918" y="15221"/>
                </a:lnTo>
                <a:lnTo>
                  <a:pt x="14918" y="9129"/>
                </a:lnTo>
                <a:lnTo>
                  <a:pt x="13630" y="912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743400" y="1545120"/>
            <a:ext cx="667800" cy="39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你能读好它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同侧圆角矩形 9"/>
          <p:cNvSpPr/>
          <p:nvPr/>
        </p:nvSpPr>
        <p:spPr>
          <a:xfrm>
            <a:off x="468360" y="1052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9T16:28:51Z</dcterms:created>
  <dc:creator/>
  <dc:description/>
  <cp:keywords/>
  <dc:language>en-US</dc:language>
  <cp:lastModifiedBy>User</cp:lastModifiedBy>
  <dcterms:modified xsi:type="dcterms:W3CDTF">2018-02-21T02:48:12Z</dcterms:modified>
  <cp:revision>1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715</vt:lpwstr>
  </property>
</Properties>
</file>